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2FB-1923-40F6-9BE6-1A4BEAC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F0C-CB85-4AB1-BB77-CDC5FC5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30A-9D0C-4AE7-BF0C-3AC32E9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09B-4286-4271-B2DA-61899174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C7E-1215-4B22-94B4-F688DD2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353-BD2E-4AED-BA51-61E4B91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56F-896D-480A-9E80-806B575E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4DC-85B5-4347-8B72-D490790D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DAB-9526-4856-8D75-8CF5DC4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62A-0153-4F48-B994-6DF212D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36E-5D6F-401B-97F7-6E26725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8C5-9872-43C5-B8EB-B150A96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8A6-0549-4B31-94CD-87F85BBC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22 de septiem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756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pia y completa con la forma correcta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español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tención cuando el profesor _______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estar, 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mucho en la clase de españ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muchos apunt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_______ un examen y los alumnos __________ el examen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 ustedes español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 cursos _________ (tú) y cuantos __________ tus amig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epaso Gramatical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2 signos de interrogaci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2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76720" y="167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76720" y="220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14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352680" y="3424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352680" y="3957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429000" y="4567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29000" y="5100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505320" y="5710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4-09-22T12:51:30Z</cp:lastPrinted>
  <dcterms:modified xsi:type="dcterms:W3CDTF">2014-09-22T22:17:13Z</dcterms:modified>
  <cp:revision>16</cp:revision>
  <dc:subject/>
  <dc:title>Me llamo _______ Clase 6 nh/il La fecha es 10 de febrero del 2011</dc:title>
</cp:coreProperties>
</file>